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2B7A6-E7B5-4507-9BC8-F821DFF9D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A72D2-09C1-4DF6-9309-D046D76A8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2921B-D4AF-483A-8505-2F2181D38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97896-931D-4E84-B6A2-7BAA6A7F4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BF09A-23B3-429D-B373-39388FE98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E3F2E-2BF7-4903-8024-D8B531D0D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C56C9-C7E2-44A7-A845-830753CB2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35632-5004-4E40-81DD-11021B3D7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91CE9-C9F7-444F-B4CD-96FA5E7FC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34E8D-B921-4BA3-8FAC-9DE18B1D8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FE2E3-723F-4911-A496-2EAED7469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C1DF2-15B0-4525-94E4-44FD3AE59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2C8F7-63B8-4612-9D1E-67F99C13B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57A6C-4A91-4515-89FD-8F5E1C409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4FB26-2604-40E2-918C-AD7FF40FC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F626B-2C83-42C7-A431-0D37835D2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982FD-6F04-418F-BB27-20D1FA6BB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FB86B-5C19-493D-9616-E9E86083B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6FCC1-C5A5-4524-AA69-931977D72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514B0-83E4-4117-AE94-8E04F0944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FD2A8-7394-4846-975E-5C6130425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AA043-417E-4777-AF92-0BA7CDC60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43203-0A61-43A6-B182-E5ED80201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F8C38-3ABD-4F33-AA07-534C9C087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976B9-91A6-4A5E-B3E8-95195EAAE0A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805B2-4F5E-4AAF-B7A9-49FAD40CB41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e5ffff"/>
                </a:solidFill>
                <a:latin typeface="Tahoma"/>
              </a:rPr>
              <a:t>Chairs meeting WCPFC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258920" y="1916280"/>
            <a:ext cx="6400800" cy="36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Welcom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Leaving Gua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Two key issues for 2008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Why an informal meet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Structure of the meet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What are the outcomes of the meeting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e5ffff"/>
                </a:solidFill>
                <a:latin typeface="Tahoma"/>
              </a:rPr>
              <a:t>Leaving Guam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Unable to deliver on Big eye and yellowfin resolu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Expectation from civil society that we wil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A lot of pressure to join the Commission and exploit the resources of the WCPFC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Lack of understanding of what it was we were trying to manage in its full sense. PS and L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Need to try something difference to get a result in Busa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e5ffff"/>
                </a:solidFill>
                <a:latin typeface="Tahoma"/>
              </a:rPr>
              <a:t>The two key deliverabl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A Conservation measure for big-eye and yellowfin tuna that deals effectively with reducing the catch on these speci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Compatible measures on the high seas…..what does it mea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Complicated by Article 10 and discussion on rights of small island state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Complicated by the desire to continue to harvest skipjack at current level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Complicated by a number of issues people are uncomfortable talking about i.e. how we interpret CM’s, what's a compatible measure, what do we want from the fishery etc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e5ffff"/>
                </a:solidFill>
                <a:latin typeface="Tahoma"/>
              </a:rPr>
              <a:t>Structure of the meeting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New agend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Presentations and workshop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Industry presentations why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Informal meeting no Commission stand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Not looking for agreement or resolution or a draft meas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Chair may draft afterwards to begin a formal proce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Goodwil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e5ffff"/>
                </a:solidFill>
                <a:latin typeface="Tahoma"/>
              </a:rPr>
              <a:t>Outcom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Getting to Busa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Need a workable resolution early in the proces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Need to understand how to manage this fishe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Need to understand what compatible measures actually mea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This meeting should develop a greater understanding of the complexity of our challeng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I am happy just to have the discussion with you it can only help our understanding and contribute to a resolu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Thanks for coming - your participation is  genuinely appreciat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1T10:44:00Z</dcterms:created>
  <dc:creator>Computer</dc:creator>
  <dc:description/>
  <dc:language>en-US</dc:language>
  <cp:lastModifiedBy>Computer</cp:lastModifiedBy>
  <dcterms:modified xsi:type="dcterms:W3CDTF">2008-03-31T11:12:53Z</dcterms:modified>
  <cp:revision>5</cp:revision>
  <dc:subject/>
  <dc:title>Chairs meeting WCPFC</dc:title>
</cp:coreProperties>
</file>